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6faf5"/>
              </a:gs>
              <a:gs pos="100000">
                <a:srgbClr val="8cf4ea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Novas tendências em gerência de re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ane Tarou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FR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990720" y="1522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specionando a re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92120" y="1287360"/>
            <a:ext cx="8346960" cy="1531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3184560" y="1424160"/>
            <a:ext cx="654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1600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184560" y="1881360"/>
            <a:ext cx="20001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T-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2057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876240" y="3124080"/>
            <a:ext cx="7201080" cy="34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B - Management Information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delo conceitual independente de implement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stema de informações contendo os dados sobre as entidades da rede (físicas e lógic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IB I, MIB II (extensív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09480" y="1523880"/>
            <a:ext cx="7620120" cy="327672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IB II - Grupos de obje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676520" y="1600200"/>
            <a:ext cx="2895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ys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fa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M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105520" y="167652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G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N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utras MI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371600" y="1981080"/>
            <a:ext cx="6553080" cy="4114800"/>
          </a:xfrm>
          <a:prstGeom prst="rect">
            <a:avLst/>
          </a:prstGeom>
          <a:solidFill>
            <a:srgbClr val="fde3ba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rvidor Nov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ien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sts, repetidores, bridges, swi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U e LUs S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licações distribuí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feteiras, torradeiras etc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990720" y="380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RA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90720" y="16002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ensagens não solicitadas geradas por um agente SN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68440" y="2887560"/>
            <a:ext cx="8346960" cy="15318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3794040" y="3405240"/>
            <a:ext cx="806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35812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651040" y="4700520"/>
            <a:ext cx="5924520" cy="20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COLDS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WARM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LINK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LINK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FAILURE OF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EXTERIOR GATEWAY PROTOCOL NEIGHBOR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790015"/>
                </a:solidFill>
                <a:latin typeface="Arial"/>
                <a:ea typeface="Arial"/>
              </a:rPr>
              <a:t>ENTERPRISE-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omentários sobre SNM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dalidade mais difundida de gerenci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seado no ambiente TCP/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ra tráfego devido à necessidade de GETs sobre cada objeto gerenci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stante  dissemina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gentes em dispositivos vari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stemas de Gerenciamento (geren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s na prática, nem todos os dispositivos contém um agente SN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urgimento do RM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523880"/>
            <a:ext cx="7772400" cy="45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fine uma adição à MIB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 agente RMON comporta, além da MIB II, outros grupos de objetos gerenci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nitora um segmento de rede e por observação coleta dados que permitem avaliar o comportamento de dispositivos sem agente SN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rmite processar (consolidar) localmente algumas informações produzindo médias e tabelas com dados sobre os dispositivos monitora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39760" y="0"/>
            <a:ext cx="881712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990720" y="2286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RMON - Grupo estatístic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9480" y="1371600"/>
            <a:ext cx="815328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cotes, octetos, broadcasts, multicasts, colis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cotes descartados pelo ag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r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der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a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C/Al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l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cessamento local, reduz tráfego gerente-agente e carga de processamento no ger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84360" y="760320"/>
            <a:ext cx="61038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RM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atísticas armazenadas em tabelas no agente R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NMP é usado para recuperar a tabela intei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ptura seletiva de tráfego com armazenamento 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RMON - Grupo H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ém estatísticas associadas com cada host descoberto na r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dereç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cotes e bytes recebidos/transmit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r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dica também horário em que o host foi perceb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til no gerenciamento de configur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ituação vig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371600"/>
            <a:ext cx="80010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s redes e a informação que elas permitem acessar passaram a tornar-se imprescindíveis e sua indisponibilidade, mesmo que momentânea,  pode ter um efeito devast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10200" y="3724200"/>
            <a:ext cx="3943440" cy="2752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533520" y="3733920"/>
            <a:ext cx="4876920" cy="198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nter uma rede funcional e operando, implica em lidar com uma quantidade imensa e heterogênea de equipa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RMON - Grupo HostTop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epara tabelas que descrevem os hosts que encabeçam uma lista ordenada por uma de suas estatís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dos selecionados e duração do estudo podem ser definidos pelo usuá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cessamento no ag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494320" y="3932280"/>
            <a:ext cx="364824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RMON - Grupo Matr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rmazena estatísticas sobre conversações entre conjuntos de dois endereç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da vez que o dispositivo detecta uma nova conversação ele cria uma nova entrada em suas tabe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ntém registro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dereço dos h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c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r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175360" y="4232160"/>
            <a:ext cx="364968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RMON - Grupo 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rmite que pacotes sejam comparados por um critério de fil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dições de filtro podem ser combinadas usando AND ou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últiplos filtros podem ser combinados usando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rmite contabilização por protoco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 resultado da comparação pode acarretar a captura do pacote ou a geração de um ev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461360" y="152280"/>
            <a:ext cx="16048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RMON - Grupo captura de pac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rmite que pacotes sejam capturados após seu fluxo por um ca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amanho do buffer para captura pode ser expandido ou reduz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tus de che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úmero de pacotes captu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612200" y="2887560"/>
            <a:ext cx="13669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omentários sobre RM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plantado em analisadores de r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oltado para o ambiente TCP/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a SNMP para reportar d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de conter extensões proprietá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ua apenas na  camad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38680" y="5257800"/>
            <a:ext cx="28958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24852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3432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15328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400800" y="4648320"/>
            <a:ext cx="914400" cy="380880"/>
          </a:xfrm>
          <a:prstGeom prst="rect">
            <a:avLst/>
          </a:prstGeom>
          <a:solidFill>
            <a:srgbClr val="a2ffa3"/>
          </a:solidFill>
          <a:ln w="381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4495680"/>
            <a:ext cx="533520" cy="457200"/>
          </a:xfrm>
          <a:prstGeom prst="ellipse">
            <a:avLst/>
          </a:prstGeom>
          <a:solidFill>
            <a:srgbClr val="fde3ba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91320" y="4952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81680" y="50292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352680" y="472428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514600" y="4343400"/>
            <a:ext cx="990720" cy="838080"/>
          </a:xfrm>
          <a:prstGeom prst="rect">
            <a:avLst/>
          </a:prstGeom>
          <a:solidFill>
            <a:srgbClr val="fde3ba"/>
          </a:solidFill>
          <a:ln w="381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te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133720" y="47242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4038480"/>
            <a:ext cx="0" cy="2438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09520" y="4876920"/>
            <a:ext cx="1390680" cy="11239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371600" y="57150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0480" y="6148440"/>
            <a:ext cx="2039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açã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rência da re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RM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upo de trabalho instituido pelo IETF em dezembro de 1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vas e ampliadas funcional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ssibilidade de selecionar pacotes tanto por seu endereço Ethernet quanto pelo endereço TCP/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pacidade de filtro aument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bilidade para rastrear protocolos (com campos de comprimento variáv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ssibilidade de efetuar decodificação nas 7 cam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RM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gente RMON2 implementa a MIB II, RMON e outros grupos que permitem a monitoração em todas as cam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abelas de controle para controlar as operações do agente R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abelas com os resultados das monitor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7621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RM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800" y="1523880"/>
            <a:ext cx="8153280" cy="45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mada de aplicação significa uma classe de protocolos não limitada aos níves MAC e de rede, podendo incluir protocolos de transporte, sessão, apresentação e aplic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m diretório de protocolos contém um registro de protocolos que o agente é capaz de reconhecer e monito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tocolos reconhecidos são os definidos em tempo de implement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tensibilidade limitada: decodificação do próximo nível baseada em tabe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RMON2 - Grup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438280" y="1828800"/>
            <a:ext cx="4191120" cy="4648320"/>
          </a:xfrm>
          <a:prstGeom prst="rect">
            <a:avLst/>
          </a:prstGeom>
          <a:solidFill>
            <a:srgbClr val="fde3ba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tocol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tocol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dress ma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twork layer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twork layer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lication layer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lication layer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r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be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ituação at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 gerenciamento de redes teve seu escopo ampliado nos últimos an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quipamen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licativ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491000" y="3168720"/>
            <a:ext cx="364824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RMON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tocolos registráv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stadores analisam qualquer protocolo conhec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omo aproveitar o RMON2 para melhorar a gerência da re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olume de dados passíveis de obtenção /e muito elevado para análise apenas usando inspeção visual em gráficos, tabelas etc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66760" y="3591000"/>
            <a:ext cx="4486320" cy="2962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334120" y="3544920"/>
            <a:ext cx="372420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oluçã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cessário desenvolver aplicações de gerenciamento que automatizem o processamento dos dados que se pode obter sobre os objetos gerenciados apropri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822320" y="4118040"/>
            <a:ext cx="518796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plicações de gerência de rede integra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tilização de bancos de dados externos às plataformas de gerenciamento para compartilhamento de dados (configuração, status etc 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ouble Ti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429000" y="3389400"/>
            <a:ext cx="563868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04920" y="45720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omo criar software que permita automatizar o process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981080"/>
            <a:ext cx="8229600" cy="39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écnicas de desenvimento de sistemas especiali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finir os métodos de obtenção de d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ganizar o conhecime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gregar eventos interdepend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mar e calcular méd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arar com dados histó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conhecer padr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étodos heurísticos para derivar conclus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 trabalho do sistema intelig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880" y="152388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ferir a causa de um problema a partir de síndromes reconhecidas nos dados obtidos da re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stemas especia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BR- Case Based Reas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306520" y="4419720"/>
            <a:ext cx="2189160" cy="1922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400640" y="5562720"/>
            <a:ext cx="1390680" cy="971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 flipV="1">
            <a:off x="5562720" y="4800600"/>
            <a:ext cx="1904760" cy="1371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467480" y="4648320"/>
            <a:ext cx="533520" cy="30492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20120" y="49528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001000" y="4876920"/>
            <a:ext cx="7621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458200" y="5334120"/>
            <a:ext cx="533520" cy="30492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91520" y="5943600"/>
            <a:ext cx="533520" cy="30492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7924680" y="563868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btenção de informaçõ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s dados podem ser obtidos por monitoração ou por captura remo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entes SN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entes R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entes CM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entes procuradores que utilizam protocolos proprietários para interrogar e controlar dispositivos não padroniz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tuação de um sistema especialista em gerência de re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09480" y="23623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do o estado de um sistema, recomenda o que fazer a seguir com base no conhecimento acumulado aplicável à esta situ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se de conhecimento fixa (construída de fábrica) ou flexível (adição de novas regras pelos usuári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terf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á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íveis de detalhamento suces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luções proprietárias para mapear disposi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048040" y="3352680"/>
            <a:ext cx="610560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7621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terfaces - WW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ituação at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2860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quantidade de informações de gerenciamento a coletar para processamento central aumentou demasi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35640" y="2209680"/>
            <a:ext cx="452268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terf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alidade virtual para navegação pela r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ta resolução gráf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olume de dados elev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019920" y="3954600"/>
            <a:ext cx="2276640" cy="16826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04920" y="2835360"/>
            <a:ext cx="5051520" cy="36417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Navegando pela rede com realidade virt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Realidade virtual no WW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RML -Virtual Reality Modelling Language permite exibir cenários de realidade virtual através do WW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ersão sem H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andos com m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990720" y="1522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onclusõ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21932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É necessário o desenvolvimento de aplicações de gerenciamento que complementem as funcionalidades das plataformas de gerenciamento existentes no merca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de ser feito “in house” ou contratado de tercei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agnóstico automatizado &amp; registro de problem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794640" y="3208320"/>
            <a:ext cx="224172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ificuldad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828800"/>
            <a:ext cx="7924680" cy="43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ficuldade de obtenção de informações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relev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cesso de informações básicas (contadores e indicadores de stat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Como interpretar e correlacionar os dad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981160" y="3814920"/>
            <a:ext cx="265752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endên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s soluções envolv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aumento nas funcionalidades dos ag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M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MON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o de interfaces mais complexos para manipulação dos dispositivos e sistemas da re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endên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808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faces mais sofisticados usando Realidade Virt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371680" y="2133720"/>
            <a:ext cx="66657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rquitetura básica do modêlo de gerência de re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867280" y="2590920"/>
            <a:ext cx="1143000" cy="1066680"/>
          </a:xfrm>
          <a:prstGeom prst="rect">
            <a:avLst/>
          </a:prstGeom>
          <a:solidFill>
            <a:srgbClr val="ffc5c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g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219320" y="2362320"/>
            <a:ext cx="2286000" cy="1295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r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477120" y="4343400"/>
            <a:ext cx="1143000" cy="1066680"/>
          </a:xfrm>
          <a:prstGeom prst="rect">
            <a:avLst/>
          </a:prstGeom>
          <a:solidFill>
            <a:srgbClr val="ffc5c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g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191120" y="5105520"/>
            <a:ext cx="1143000" cy="1066680"/>
          </a:xfrm>
          <a:prstGeom prst="rect">
            <a:avLst/>
          </a:prstGeom>
          <a:solidFill>
            <a:srgbClr val="ffc5c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g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2971800"/>
            <a:ext cx="2361960" cy="763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3276720"/>
            <a:ext cx="2971800" cy="16002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00400" y="3657600"/>
            <a:ext cx="1600200" cy="1447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870360" y="2567160"/>
            <a:ext cx="1238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oco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98560" y="3786120"/>
            <a:ext cx="2305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eta informa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080040" y="5691240"/>
            <a:ext cx="27511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ito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assam informa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990720" y="1522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rotocolo SNM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28600" y="160020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gentes disponíveis em muitos tipos de equipamentos (HUBs, bridges, roteadores, estações UNIX, servidores de rede etc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98600" y="3192480"/>
            <a:ext cx="8334360" cy="1530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669960" y="4799160"/>
            <a:ext cx="11667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919191"/>
                </a:solidFill>
                <a:latin typeface="Arial"/>
                <a:ea typeface="Arial"/>
              </a:rPr>
              <a:t>GER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575080" y="3747960"/>
            <a:ext cx="3602160" cy="30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PROTOCOLO SN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T-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T-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05320" y="51055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343400" y="54864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58672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5181480" y="624852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505320" y="66294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ane Tarouco</dc:creator>
  <dc:description/>
  <dc:language>en-US</dc:language>
  <cp:lastModifiedBy>Liane Tarouco</cp:lastModifiedBy>
  <cp:revision>0</cp:revision>
  <dc:subject/>
  <dc:title>Novas tendências em gerência de rede</dc:title>
</cp:coreProperties>
</file>