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4486-EB03-4614-A821-4992AFED6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AE7D-1FD4-4984-8802-254FFC23B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5AE50-05C7-4C2A-9794-46C91DFE7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98072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4329360"/>
            <a:ext cx="25761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A4258-6105-4E14-978D-3BF1248D78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08A8-F00C-4920-BA8B-C8BF749FB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1723A-13CA-4D44-AB1B-AD9FED49F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1B5CA-7F76-4319-B854-3A579513C4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F393-9A7F-4906-8CF1-AE7A02F47E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0480-1FA9-4D5F-AE6D-F02D9A1BF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95DA5-E678-42C5-A617-FFF19EDAB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904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432936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1C04-775D-4EF2-BF5C-0FC0CF31A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980720"/>
            <a:ext cx="39042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329360"/>
            <a:ext cx="80010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3421-4A14-44FD-AD3E-68962A264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Luis Roberto Ulbrich  -  mai/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05360" y="6019560"/>
            <a:ext cx="1904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D8B8-3B6A-4E30-ABA4-09080D20D6D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990720"/>
            <a:ext cx="8076960" cy="5562360"/>
          </a:xfrm>
          <a:prstGeom prst="rect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Hierárquico por Exceção em Ambiente AT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r Luis Roberto Ulb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mai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Dissertação de Mest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Centraliza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ividades de gerenciamento recaem sobre um único ge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isualização de alertas e eventos em uma única es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essibilidade e facilidade de manutenção da seguranç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cessiva quantidade de tráf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mitação na habilidade de gerenc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Centraliza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79250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Distribuí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onsabilidades gerenciais distribuídas entre gerentes que cobrem domínios disti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umento na habilidade de ger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lhor utilização dos recursos ger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isco de dois ou mais gerentes controlarem o mesmo agente (tráfego desnecessá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scentralização das informações de gerênc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Distribuíd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250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Hierárquic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stribuição das tarefas de gerenci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entralização das informações de gerenci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ois ou mais níveis de ger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te intermediário - possuem domínios de agentes associados a si (coleção de obje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te de gerentes (Mo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NM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Hierárquic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por Pol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róprio para monitoração e controle de recursos em tempo r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obrecarregam operadores com dados crus e redund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eúdo útil das informações em relação ao total de dados transferidos é muito baix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dores incapazes de filtrar a grande quantidade de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formação útil através da combinação de val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ência por Exc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por Exce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nsferência de informações de gerência entre entidades na forma de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istórico de informações relacionadas a configuração da rede, falhas e níveis normais de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tilização dos anteriores para diagnosticar e tomar decisões sobre ações de contr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so infreqüente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ollings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para a determinação da conectiv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ência por Exc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rrelação de Evento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equenos problemas podem ocasionar grandes problemas quando de sua combin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andes problemas podem ocasionar vários outros pequenos problemas adicion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úmeros problemas ocorrem simultaneamente na rede, ocasionando em inúmeros alar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ência por Exc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ência por Exc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rrelação de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grupamento de alarmes correspondentes a um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iferenciação entre alarmes causadores e resultantes de uma situação anôma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ação de ações de repa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nitoração dos resultados do probl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umá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066680"/>
            <a:ext cx="80010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19320"/>
            <a:ext cx="8001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roduçã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écnicas de Gerenciamento de Re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em Ambiente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erramentas Empregadas no Pro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 HE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istemas Especialista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oluciona problemas complexos através do uso de um modelo computacional do raciocínio de um especialista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usca dirigida e não por exaust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presentação do conhecimento via Sistemas de 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gras “SE condição ENTÃO ação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ência por Exce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eculiaridad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C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xas altas e variáveis de dados &gt;&gt; maior quantidade d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últiplos tipos de tráfego &gt;&gt; manutenção de maior quantidade de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minhos virtuais sobre caminhos físicos &gt;&gt; mais uma camada de complex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íveis de QoS &gt;&gt; necessidade de garantia e reportagem de viol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de Falh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dentificadas e isoladas rapid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iltragem e correl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cção automátic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rros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oftware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dificações no estado dos módulos do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terações no estad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link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onitoração de parâmetros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adores de conexões e de SV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tísticas em relação a erros em po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alização de testes dinâmicos, sob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de Configu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 em si (switches, roteadores e circuitos físic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luxo de dados (PVCs e SV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mitação de padronização &gt;&gt; impossibilidade de inter-ope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adição e remo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ódulos dos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T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V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abilitação de módulos, portas, componentes de swi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ecção e notificação de modificações na config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de Cont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ão há consenso entre fabric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ntidade de portas e VCs associados a cada consum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VCs - conexão a uma determinada velo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dereço chamado e endereço do cham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 de início e tempo de duração da cha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racterísticas da chamada, tais como QoS e taxa de transmi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tal de células enviadas e rece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de Desempen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 física e vir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istência de múltiplos tipos de tráf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cessidade de garantia de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adores de células transmitidas e recebidas por po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adores de células errôneas receb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adores de células por conexão (VCs e V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ência de Segur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todos de segurança em desenvolv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ucas opções para o controle de acesso a redes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witche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ATM não possuem facilidades de controle de a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Cs estabelecidos não apresentam informações relacionadas a fonte, destino ou apl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bord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o questionar-se a eficiência do modelo de gerência tradicional para a gerência de redes ATM, duas abordagens podem ser adotad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lhoria do modelo existente, através da adição de novas funções e pequenas alterações em sua estrutura, sem maiores  alterações em relação a características básicas do parad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finição total da estrutura de gerência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lternativas para o Gerenciamento AT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LMI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Interin Local Management Interfa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delo de Gerência ATM 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de FCP via CMIP/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rfaces M1-M5 (redes ATM públicas e privadas, NMS dispositivos de usuári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unções OAM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Operation &amp; Maintenenc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utenção controlada (gerenciamento inter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lano de Gerenciamento do MR B-ISD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Gerenciamento ATM via SNM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operabilidade entre ATM e LANS herda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mulação de LANs herdadas sobre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ANE - LAN E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lassical IP over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POA - Multiprotocol over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siderações Inicia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O gerenciamento das redes ATM vem a ser fundamental para a maximização da eficência de sua utilização, dada a complexidade e a flexibilidade inerentes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ToM MIB (RFC 251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ETF (Internet Engineering Task For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entada para o gerenciamento de PV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enciamento de SVCs  (Internet-Dra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plemental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s apresentam informações s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nks virtuais (VCs e V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exões entre links virtuais (Cross Conn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tatísticas de desempenho AAL5 de VC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ILMI MI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M Forum (C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s apresentam informações sob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mada fís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amada ATM (dados e estatístic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C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P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roxy agent &gt;&gt; informações em relação à UME adjac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UCD-SN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University of California at Dav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riginalmente baseado no pacote CMU-SNMP (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ersão 3.5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IN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erenciamento de forma cooperativa e integ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a partir de plataforma ú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cesso através de múltiplos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entralização das inform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ecanismos de 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pendência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anco de dados de informações de compon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INEM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tratamento automatizado dos ale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 de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rouble Ticket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- permite a cooperação entre operadores através de uma base comum de problemas e soluçõ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stema de Alertas - mecanismos de monitoração da rede e geração de alertas em situações crít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onitoração Remot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onitores ou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ções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off-lin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itoração pró-ativ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tecção e registro de problem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lorização dos dados cole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porte a múltiplos ger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144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onitoração Remota em AT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M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dronizado para operar com redes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drão não exclui outras tecnolog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TM RMON (tes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ru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arm - programação de eventos gerados quando valor/variação de um objeto ultrapassar limiares pré-defin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vent - controla a geração e a notificação de eventos, produzind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log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ou enviand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tr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144792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a finalidade de verificação da aplicação dos conceitos de gerenciamento hierárquico e gerenciamento por exceção na gerência de ambientes ATM, através da utilização do protocolo SNMP em suas primeira e segunda versões, foi projetado e implementado o sistema HEMAN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Hierarchical by Exception Management over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M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 Network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)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xiliar operadores de rede no gerenciamento de redes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92504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792504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siderações Inicia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Em aspectos gerais, as abordagens centralizadas têm-se mostrado inadequadas para o gerenciamento eficiente de redes com um grande número de nós ou com grande diversidade de dispositivos, devido ao grande volume de informações a serem tratadas e à dispersão geográfica das mesmas, não sendo adequadas ao gerenciamento em ambientes ATM”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arquitetura hierárquica, em contrapartida, garante a distribuição das tarefas de gerenciamento ao longo de vários gerentes, economizando recursos e utilização da largura de banda da rede, permitindo, ainda assim, a centralização das informações de gerência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ódulo 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ceber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rrelatar eventos (Sistema Especialis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viar notificações ao módulo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ódulo G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62940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ódulo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ceber notificações de módulos G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entralizar informações de gerê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otificar eventuais problemas na rede ATM a operado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ódulo M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9250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rquivos do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nfigu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empo de espera para V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ndereço IP de ent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ome de comunidade de ent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rvalo de tempo para correlação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Log - armazenamento de eventos especí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GI e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formações gerenciais disponíveis nos agentes consultados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switches IBM 8265 e 828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IB-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oM MI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M Interfac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M Interface VCL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M Traffic Descriptor &gt;&gt;  melhor esforç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faces ATM ativas em cada dispositi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VCs presentes em cada interface (F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Seleção de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sência de MIBs de monitoração remo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mplementação de agente proprietário, responsável pelo envio de TRAPS em determinadas situações program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ubstituição da abordagem orientada a eventos, por parte do módulo GI, pela abordagem de gerenciamento por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imular a geração de eventos com a utilização de um módulo auxiliar externo (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nmptrap)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figuração de Alar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finição de lim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vestigações periódicas realizadas ao longo de vários dias (baseli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riação do período de intervalo entre consultas (10min a 1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ariação do período do dia que as amostragens foram realizad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figuração de Alar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Regras de P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rrelação de ev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ntervalos de tempo discr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143000"/>
            <a:ext cx="7620120" cy="396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3152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5248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11430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080" y="1143000"/>
            <a:ext cx="746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17524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24382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9718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35053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45720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38080" y="403848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45720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alling Event I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40384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ising Event I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5053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Falling Thre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297180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ising Thre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24382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9051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447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te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143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480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9528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800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2408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680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0" y="1143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760" y="14479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19051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f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tatus.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58120" y="25146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3480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13480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480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4800" y="46483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2012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38880" y="18288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tmVclO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Status.101.0.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0840" y="2514600"/>
            <a:ext cx="4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9716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71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41148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97520" y="46483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24480" y="1752480"/>
            <a:ext cx="114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tmInterfacConfVc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.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29400" y="2514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276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2400" y="3581280"/>
            <a:ext cx="33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276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3120" y="46483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1905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fIn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.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2514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93680" y="312408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915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94400" y="358128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15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16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25520" y="46483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1905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fOutOctets.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33920" y="2514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9160" y="31240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54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5840" y="358128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3600" y="41148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3600" y="4648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19051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fInErrors.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00600" y="2514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5396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396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3960" y="41148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4320" y="464832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1447920"/>
            <a:ext cx="45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10080" y="19051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fOutErrors.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251460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2400" y="3124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92400" y="3581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92400" y="4114800"/>
            <a:ext cx="2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792400" y="4648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6019920"/>
            <a:ext cx="30898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Queda no status operacional da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914400" y="434340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08520" y="5715000"/>
            <a:ext cx="41112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mento considerável no número de octetos receb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447920" y="4343400"/>
            <a:ext cx="1752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92880" y="5410080"/>
            <a:ext cx="42728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Redução considerável no número de octetos transmit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09680" y="487692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080" y="5181480"/>
            <a:ext cx="22550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Presença de erro na recep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885840" y="43434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63480" y="5181480"/>
            <a:ext cx="24973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sência de erro na transmiss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48006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2160" y="6019920"/>
            <a:ext cx="404424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Aumento no número de VCCs em uso fora do padr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4343400"/>
            <a:ext cx="12952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siderações Inicia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O mecanismo de polling empregado nos sistemas de gerenciamento atuais para a transferência de grandes volumes de dados sobrecarrega os operadores de rede com dados crus, redundantes e de difícil assimilação para o diagnóstico de problemas e determinação de ações de controle apropriada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 gerência por exceção vem a apresentar-se como uma alternativa, reduzindo o tráfego de mensagens entre entidades de gerência e permitindo o gerenciamento através da definição de alarmes relacionados aos problemas relevantes na rede, proporcionando o provimento de tratamento automatizado aos mesmo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62120" y="1371600"/>
            <a:ext cx="7543800" cy="4114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0968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4320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34120" y="13716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16765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35053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7000" y="3581280"/>
            <a:ext cx="102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Out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OutErr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10760" y="35812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3,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505320"/>
            <a:ext cx="25146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redução considerável no número de octetos transmitidos no intervalo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E) não presença de erro na transmissão no intervalo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E) ausência de erro na transmissão no intervalo x SE presença de erro na transmissão em intervalo x anteri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4120" y="350532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via IR (“Redução considerável no número de células transmitidas na interface &lt;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Index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gt;, sem a presença de erros na transmissão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4840" y="1752480"/>
            <a:ext cx="118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Oper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Admin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10760" y="175248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,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743200" y="1676520"/>
            <a:ext cx="2514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operacional da interface passou para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down 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no intervalo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E) status administrativo da interface não passou para down no intervalo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(E) status operacional da interface não passou para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up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no intervalo x+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4120" y="167652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Envia IR (“Queda no 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operacional da interface &lt;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ifIndex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gt;, conectada a &lt;</a:t>
            </a: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atmInterfaceMy NeighborIPAddress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gt;”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1371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4080" y="137160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0200" y="13716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dição (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6960" y="1371600"/>
            <a:ext cx="136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ção (ENTÃ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Sistema HE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6197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de redes 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ividade de grande complex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fisticação e flexibilidade in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oluções as quais eram adequadas para a gerência de outras redes passam a ser insuficientes frente a novos desafios particu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mbientes orientados a conex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edade de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nde volume de tráfego de dados diverso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exões virtuais em alta velocid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go de uma abordagem pro-á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arga utilização de filtragem e correlação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ante processo de refinamento da configu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leta de métricas e estatísticas em relação à utilização de seu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ficiente sistema de registro de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cado na qualidade dos 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vitando a redundância de inform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tilização de padrões &gt;&gt; interopera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smo mostrando-s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parentemente inadequ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o gerenciamento de redes baseadas em um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cnologia extremamente exigent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m termos de recursos empregados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Arquitetura de Gerência de Redes Internet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através da utilização de seu protocolo SNMP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m sido a abordagem mais utilizada para a gerência em ambientes ATM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quanto outras abordagens não tem-se mostrado apropriada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O corrente trabalho propôs a utilização de um sistema com base no protocolo SNM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a gerência de redes ATM, seguindo o padrão até então utilizado no mercado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em deixar de reconhec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o entanto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uas limitações para a gerência de tal tecnologia de maneira eficiente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udo das possibilidades de utilização da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ência SNMP em ambientes ATM e resultados obtidos demonstraram  que a gerência SNMP pode vir a ser de grande ut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stões que não venham a exigir uma necessidade de resposta em tempo re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tribuição através da utilização da abordagem pró-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composição da rede em caso de falhas torna-se bastante difícil para sistemas baseados em SNMP &gt;&gt; grande velocidade dos acontecimentos na red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44792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enciamento hierárqu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istemas mais robu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arefas gerenciais mais valor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tribuição das tarefas ao longo de vários ele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erência por exc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ização da informação 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dução do volume de dados ger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go de abordagem pró-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itoração rem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lorização da informação ger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stribuição das tarefas gerenciais com os 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imos a acreditar que o gerenciamento de redes ATM venha a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ntinuar sendo realizad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m sua ampla maioria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via SNM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ao menos ao longo dos próximos anos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quanto não tivermos a comprovação da eficiência de outros mecanism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A este ponto agrega-se o fato das especificações da utilização de células OAM não ter sido concluído ainda com êx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mos, ainda, uma necessidade de mesclar métodos d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isand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brir todas as área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maneira efic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pregado em MIBs proprietári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IBs CISCO-ATM-CONN-MIB e                         CISCO-ATM-OAM-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1295280"/>
            <a:ext cx="78487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iás, o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mprego de MIBs proprietárias vem a     mostrar-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infelizmente, até o presente momento,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sencial para o complemento das MIBs padr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visto qu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uitas características interessantes encontradas nas MIBs proprietárias encontram-s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aind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, em processo de padronizaçã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elo IETF.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Principais Dificul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usência da ILMI MIB e de vários grupos da AToM MIB nos agentes consul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leção de grupo de objetos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alta de informações cross-conect não dá a dimensão da dificuldade de gerência fim-a-fi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necessidade de simulação de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robe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R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créscimo da performance do gerenci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otivaçã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As abordagens de gerenciamento de redes baseadas em arquiteturas centralizadas as quais utilizam-se do mecanismo de polling para a transferência de grandes quantidades de informações entre entidades de gerenciamento não vêem a ser adequadas para a utilização em ambientes AT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elho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istema especialista no módulo M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alização da gerência fim-a-f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implementação da ATM RMON MIB em agen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utenção de estatísticas da re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utilização do protocolo SNM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gu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mpliação no número de G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... proposta da realização de gerenciamento de ambientes ATM via SNMP, através da utilização de uma arquitetura hierárquica e dirigida a eventos, possibilitando-se o tratamento automatizado dos mesmos 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Considerações Ini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r existirem inúmeros problemas ocorrendo simultaneamente na rede, resultando em uma grande quantidade de alarmes, estes devem ser correlacionados, visando a obtenção de alarmes mais significativos e permitindo o tratamento de problemas de maneira efetiv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larmes são gerados no sistema através da utilização de técnicas de monitoração remota, as quais permitem a minimização do tráfego de gerenciamento na rede, colaborando com a atividade de gerência à medida que não sobrecarrega o sistem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1066680"/>
            <a:ext cx="8076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Arquiteturas Gerencia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001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bordagens centralizadas inadequadas para o gerenciamento de re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grande número de nó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ande diversidade de dispositiv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nquanto grandes redes já se encontram estruturadas hierarquicamente, o gerenciamento das mesmas permanece popularizado na arquitetura centralizada..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4572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Tahoma"/>
              </a:rPr>
              <a:t>Gerenciamento Hierárqu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7T13:49:01Z</dcterms:created>
  <dc:creator>ulbrich</dc:creator>
  <dc:description/>
  <dc:language>en-US</dc:language>
  <cp:lastModifiedBy>Mário Roberto da S. Ulbrich</cp:lastModifiedBy>
  <cp:lastPrinted>2000-05-30T13:01:09Z</cp:lastPrinted>
  <dcterms:modified xsi:type="dcterms:W3CDTF">2000-05-30T13:09:03Z</dcterms:modified>
  <cp:revision>113</cp:revision>
  <dc:subject/>
  <dc:title>Slide sem título </dc:title>
</cp:coreProperties>
</file>